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EF35-9707-475B-809E-C8F56338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D7D1-2FFB-4D85-B5B7-FC06E2DD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78EB-8790-4AA2-B4AA-7878BD24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A552-3EAB-451D-B1B2-5AA24287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B439-F7A3-422D-8C8C-B4CF7A53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777C-CFCB-46E2-821D-C6A1B75D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B561-3D4B-447E-BC96-BF96AF06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80BD-F53E-40A3-B916-EF690E45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C097-9A32-442D-9322-4DACE5E0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F131-FF99-4B0C-AAAC-08180DA9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7A07-3B84-478A-A652-B0132DDF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3CF6-E9E3-4314-849C-D63534C8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8400-1DE6-48F2-9D8E-62E08A2DE119}" type="slidenum">
              <a:rPr b="0" lang="es-C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  <a:ea typeface="Arial"/>
              </a:rPr>
              <a:t>Evaluación de Competencias del siglo XX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898989"/>
                </a:solidFill>
                <a:latin typeface="Arial"/>
                <a:ea typeface="Arial"/>
              </a:rPr>
              <a:t>Habilida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898989"/>
                </a:solidFill>
                <a:latin typeface="Arial"/>
                <a:ea typeface="Arial"/>
              </a:rPr>
              <a:t> </a:t>
            </a:r>
            <a:r>
              <a:rPr b="0" lang="es-CR" sz="3200" spc="-1" strike="noStrike">
                <a:solidFill>
                  <a:srgbClr val="898989"/>
                </a:solidFill>
                <a:latin typeface="Arial"/>
                <a:ea typeface="Arial"/>
              </a:rPr>
              <a:t>Pensamiento crít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000000"/>
                </a:solidFill>
                <a:latin typeface="Arial"/>
                <a:ea typeface="Arial"/>
              </a:rPr>
              <a:t>The International Critical thinking Reading  and Writing Te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  <a:ea typeface="Arial"/>
              </a:rPr>
              <a:t>El propósito de estas pruebas es evaluar la habilidad de los estudiantes de pensar de una manera disciplinada y hábil.  Los resultados pueden determinar hasta que punto han adquirido esta destre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2400" spc="-1" strike="noStrike">
                <a:solidFill>
                  <a:srgbClr val="000000"/>
                </a:solidFill>
                <a:latin typeface="Arial"/>
                <a:ea typeface="Arial"/>
              </a:rPr>
              <a:t>Productos esperados del los exámenes de lectura y escritura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  <a:ea typeface="Arial"/>
              </a:rPr>
              <a:t>Reflexion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  <a:ea typeface="Arial"/>
              </a:rPr>
              <a:t>Monitorean cómo le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  <a:ea typeface="Arial"/>
              </a:rPr>
              <a:t>Elaboran resúme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  <a:ea typeface="Arial"/>
              </a:rPr>
              <a:t>Dan ejemplos basados en sus propias experiencias o de las ideas de la lectu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  <a:ea typeface="Arial"/>
              </a:rPr>
              <a:t>Realizan conexiones entre las ideas principa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  <a:ea typeface="Arial"/>
              </a:rPr>
              <a:t>Parafrasean,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Este libro  contiene ejemplos de las diferentes formas de evaluar lectura y escritura, brindan diferentes  formatos y rúbric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Criteri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En cuanto a los criterios sugeridos, este libro los complementan brindando una extensa gama de posibilida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  <a:ea typeface="Arial"/>
              </a:rPr>
              <a:t>http://www.criticalthinking.org/files/ReadWritingTestOp1.pd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  <a:ea typeface="Arial"/>
              </a:rPr>
              <a:t>What Are Typical Standardiz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Critical Thinking” Tests Actually Test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standardized critical thinking tests are testing for three or four of such concepts a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erence, induction, deduction, interpretation, analysis, synthesis, credibility, missing premises, analyzing arguments, avoiding equivocation, irrelevance, circularity, straw person, overgeneralization, excessive skepticism, etc…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reduces in some cases to a test of formal logic (deduction) or informal logic (fallacy recogni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other cases, standardized critical thinking tests reduce to tests of psychological processes (oft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ose found in Bloom’s Taxonomy), like analysis, synthesis, or evalu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test focuses on these psychological process words, there are rarely any intellectual standards being used (like clarity, accuracy, precision, relevance,…) to assess these processe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ntent/pdf/WhitePaperHolisticTests.pdf, August 2007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ger Benjamin, et. al. “Holistic Tests in a Sub-score World: The Diagnostic Logic of the Collegiate Learning Assessment,”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://www.cae.org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://www.criticalthinking.org/files/White%20PaperAssessmentSept2007.p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6T19:11:16Z</dcterms:created>
  <dc:creator>Doreen</dc:creator>
  <dc:description/>
  <dc:language>en-US</dc:language>
  <cp:lastModifiedBy>Doreen</cp:lastModifiedBy>
  <dcterms:modified xsi:type="dcterms:W3CDTF">2012-08-21T20:42:17Z</dcterms:modified>
  <cp:revision>11</cp:revision>
  <dc:subject/>
  <dc:title>Evaluación de Competencias del siglo XXI</dc:title>
</cp:coreProperties>
</file>